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1.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Click to move the slide</a:t>
            </a:r>
            <a:endParaRPr b="0" lang="en-US" sz="4400" spc="-1" strike="noStrike">
              <a:solidFill>
                <a:srgbClr val="ded911"/>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2623-2C52-41F2-8C6B-DAF4E2027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5899-4DBF-4DE1-B8CA-C9859E368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4440" y="690480"/>
            <a:ext cx="4567320" cy="3425760"/>
          </a:xfrm>
          <a:prstGeom prst="rect">
            <a:avLst/>
          </a:prstGeom>
          <a:ln w="0">
            <a:noFill/>
          </a:ln>
        </p:spPr>
      </p:sp>
      <p:sp>
        <p:nvSpPr>
          <p:cNvPr id="197"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FF37-2017-4764-AC99-2A6217EAF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6240" y="689040"/>
            <a:ext cx="4565520" cy="342432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BC9C-B447-43EA-8927-0BAC9CBAF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6240" y="689040"/>
            <a:ext cx="4565520" cy="342432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14FD-A0B5-4A2C-862A-4E4E1E810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6240" y="689040"/>
            <a:ext cx="4565520" cy="342432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7B912-CEB8-4C02-A65E-D8033F22A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34" name="PlaceHolder 2"/>
          <p:cNvSpPr>
            <a:spLocks noGrp="1"/>
          </p:cNvSpPr>
          <p:nvPr>
            <p:ph/>
          </p:nvPr>
        </p:nvSpPr>
        <p:spPr>
          <a:xfrm>
            <a:off x="6429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429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41A1D-8E8E-42B5-AAFC-205FE313F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37"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429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256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FF008-128A-49F9-A01B-5C216B1FD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42" name="PlaceHolder 2"/>
          <p:cNvSpPr>
            <a:spLocks noGrp="1"/>
          </p:cNvSpPr>
          <p:nvPr>
            <p:ph/>
          </p:nvPr>
        </p:nvSpPr>
        <p:spPr>
          <a:xfrm>
            <a:off x="6429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2709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898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429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2709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898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EA7C2-0143-4CE6-9007-F98BFDF1C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487FD-E5C8-4B33-9865-4C69EA5EC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57" name="PlaceHolder 2"/>
          <p:cNvSpPr>
            <a:spLocks noGrp="1"/>
          </p:cNvSpPr>
          <p:nvPr>
            <p:ph type="subTitle"/>
          </p:nvPr>
        </p:nvSpPr>
        <p:spPr>
          <a:xfrm>
            <a:off x="6429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0BD61-B4C9-47FF-A79D-A1B8FDF2B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59"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BB283-5E9F-4060-ACBD-9CE271FD4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61" name="PlaceHolder 2"/>
          <p:cNvSpPr>
            <a:spLocks noGrp="1"/>
          </p:cNvSpPr>
          <p:nvPr>
            <p:ph/>
          </p:nvPr>
        </p:nvSpPr>
        <p:spPr>
          <a:xfrm>
            <a:off x="6429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256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6DA2A-AC60-48B7-A9FC-7354865F5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F44E0-5A38-4B3F-90A5-E16977CEF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0C3F7-44DF-4194-925E-725A1C725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66"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256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429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A6E51-F637-4C5E-9FFB-F33054448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13" name="PlaceHolder 2"/>
          <p:cNvSpPr>
            <a:spLocks noGrp="1"/>
          </p:cNvSpPr>
          <p:nvPr>
            <p:ph type="subTitle"/>
          </p:nvPr>
        </p:nvSpPr>
        <p:spPr>
          <a:xfrm>
            <a:off x="64296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C051B-D28E-4431-9D40-18962F413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70" name="PlaceHolder 2"/>
          <p:cNvSpPr>
            <a:spLocks noGrp="1"/>
          </p:cNvSpPr>
          <p:nvPr>
            <p:ph/>
          </p:nvPr>
        </p:nvSpPr>
        <p:spPr>
          <a:xfrm>
            <a:off x="6429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256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175D5-52EF-4601-B48A-EFFE927A9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74"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429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8E13C-B6C1-40BD-B6C1-2D3653907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78" name="PlaceHolder 2"/>
          <p:cNvSpPr>
            <a:spLocks noGrp="1"/>
          </p:cNvSpPr>
          <p:nvPr>
            <p:ph/>
          </p:nvPr>
        </p:nvSpPr>
        <p:spPr>
          <a:xfrm>
            <a:off x="64296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429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5D850-44AD-4D82-B9A4-DEB7C4467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81"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429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256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30E2A6-3BB2-4D3D-BD2C-868F4D840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86" name="PlaceHolder 2"/>
          <p:cNvSpPr>
            <a:spLocks noGrp="1"/>
          </p:cNvSpPr>
          <p:nvPr>
            <p:ph/>
          </p:nvPr>
        </p:nvSpPr>
        <p:spPr>
          <a:xfrm>
            <a:off x="6429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27096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898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429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27096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898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1C614-A066-4820-A9C2-5253A411D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15"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E84F3-3FD8-4C2B-B57D-347933D6A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17" name="PlaceHolder 2"/>
          <p:cNvSpPr>
            <a:spLocks noGrp="1"/>
          </p:cNvSpPr>
          <p:nvPr>
            <p:ph/>
          </p:nvPr>
        </p:nvSpPr>
        <p:spPr>
          <a:xfrm>
            <a:off x="6429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256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53C2F-3ABD-4C3D-8E9B-3DF007A57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D3DC8-E405-40CA-AC6A-E9A9AAAD7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8D0C4-6278-40B6-BA0B-0EC3C8CAC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22"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256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429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97AA-284A-47D6-B8C6-338B66E75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26" name="PlaceHolder 2"/>
          <p:cNvSpPr>
            <a:spLocks noGrp="1"/>
          </p:cNvSpPr>
          <p:nvPr>
            <p:ph/>
          </p:nvPr>
        </p:nvSpPr>
        <p:spPr>
          <a:xfrm>
            <a:off x="6429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256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14F57-360C-4DB5-814A-B7EB33213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ed911"/>
              </a:solidFill>
              <a:latin typeface="Times New Roman"/>
            </a:endParaRPr>
          </a:p>
        </p:txBody>
      </p:sp>
      <p:sp>
        <p:nvSpPr>
          <p:cNvPr id="30" name="PlaceHolder 2"/>
          <p:cNvSpPr>
            <a:spLocks noGrp="1"/>
          </p:cNvSpPr>
          <p:nvPr>
            <p:ph/>
          </p:nvPr>
        </p:nvSpPr>
        <p:spPr>
          <a:xfrm>
            <a:off x="6429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256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4296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A5ED-0E6B-408D-A9C2-B1B20F9EA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4296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
          <p:cNvSpPr/>
          <p:nvPr/>
        </p:nvSpPr>
        <p:spPr>
          <a:xfrm>
            <a:off x="380880" y="152280"/>
            <a:ext cx="3984840" cy="311400"/>
          </a:xfrm>
          <a:custGeom>
            <a:avLst/>
            <a:gdLst/>
            <a:ahLst/>
            <a:rect l="l" t="t" r="r" b="b"/>
            <a:pathLst>
              <a:path w="2509" h="196">
                <a:moveTo>
                  <a:pt x="5" y="93"/>
                </a:moveTo>
                <a:lnTo>
                  <a:pt x="39" y="61"/>
                </a:lnTo>
                <a:lnTo>
                  <a:pt x="71" y="43"/>
                </a:lnTo>
                <a:lnTo>
                  <a:pt x="104" y="28"/>
                </a:lnTo>
                <a:lnTo>
                  <a:pt x="144" y="18"/>
                </a:lnTo>
                <a:lnTo>
                  <a:pt x="182" y="13"/>
                </a:lnTo>
                <a:lnTo>
                  <a:pt x="227" y="10"/>
                </a:lnTo>
                <a:lnTo>
                  <a:pt x="281" y="13"/>
                </a:lnTo>
                <a:lnTo>
                  <a:pt x="321" y="22"/>
                </a:lnTo>
                <a:lnTo>
                  <a:pt x="357" y="34"/>
                </a:lnTo>
                <a:lnTo>
                  <a:pt x="408" y="60"/>
                </a:lnTo>
                <a:lnTo>
                  <a:pt x="440" y="85"/>
                </a:lnTo>
                <a:lnTo>
                  <a:pt x="474" y="111"/>
                </a:lnTo>
                <a:lnTo>
                  <a:pt x="509" y="129"/>
                </a:lnTo>
                <a:lnTo>
                  <a:pt x="561" y="142"/>
                </a:lnTo>
                <a:lnTo>
                  <a:pt x="626" y="148"/>
                </a:lnTo>
                <a:lnTo>
                  <a:pt x="677" y="145"/>
                </a:lnTo>
                <a:lnTo>
                  <a:pt x="728" y="135"/>
                </a:lnTo>
                <a:lnTo>
                  <a:pt x="770" y="117"/>
                </a:lnTo>
                <a:lnTo>
                  <a:pt x="806" y="93"/>
                </a:lnTo>
                <a:lnTo>
                  <a:pt x="860" y="57"/>
                </a:lnTo>
                <a:lnTo>
                  <a:pt x="899" y="36"/>
                </a:lnTo>
                <a:lnTo>
                  <a:pt x="950" y="13"/>
                </a:lnTo>
                <a:lnTo>
                  <a:pt x="998" y="4"/>
                </a:lnTo>
                <a:lnTo>
                  <a:pt x="1043" y="3"/>
                </a:lnTo>
                <a:lnTo>
                  <a:pt x="1119" y="6"/>
                </a:lnTo>
                <a:lnTo>
                  <a:pt x="1181" y="21"/>
                </a:lnTo>
                <a:lnTo>
                  <a:pt x="1214" y="39"/>
                </a:lnTo>
                <a:lnTo>
                  <a:pt x="1260" y="66"/>
                </a:lnTo>
                <a:lnTo>
                  <a:pt x="1308" y="102"/>
                </a:lnTo>
                <a:lnTo>
                  <a:pt x="1349" y="121"/>
                </a:lnTo>
                <a:lnTo>
                  <a:pt x="1403" y="133"/>
                </a:lnTo>
                <a:lnTo>
                  <a:pt x="1458" y="138"/>
                </a:lnTo>
                <a:lnTo>
                  <a:pt x="1514" y="133"/>
                </a:lnTo>
                <a:lnTo>
                  <a:pt x="1557" y="123"/>
                </a:lnTo>
                <a:lnTo>
                  <a:pt x="1593" y="111"/>
                </a:lnTo>
                <a:lnTo>
                  <a:pt x="1635" y="84"/>
                </a:lnTo>
                <a:lnTo>
                  <a:pt x="1668" y="61"/>
                </a:lnTo>
                <a:lnTo>
                  <a:pt x="1704" y="39"/>
                </a:lnTo>
                <a:lnTo>
                  <a:pt x="1754" y="18"/>
                </a:lnTo>
                <a:lnTo>
                  <a:pt x="1794" y="6"/>
                </a:lnTo>
                <a:lnTo>
                  <a:pt x="1844" y="1"/>
                </a:lnTo>
                <a:lnTo>
                  <a:pt x="1907" y="0"/>
                </a:lnTo>
                <a:lnTo>
                  <a:pt x="1958" y="4"/>
                </a:lnTo>
                <a:lnTo>
                  <a:pt x="2003" y="18"/>
                </a:lnTo>
                <a:lnTo>
                  <a:pt x="2039" y="33"/>
                </a:lnTo>
                <a:lnTo>
                  <a:pt x="2073" y="54"/>
                </a:lnTo>
                <a:lnTo>
                  <a:pt x="2118" y="88"/>
                </a:lnTo>
                <a:lnTo>
                  <a:pt x="2153" y="109"/>
                </a:lnTo>
                <a:lnTo>
                  <a:pt x="2192" y="124"/>
                </a:lnTo>
                <a:lnTo>
                  <a:pt x="2244" y="135"/>
                </a:lnTo>
                <a:lnTo>
                  <a:pt x="2303" y="138"/>
                </a:lnTo>
                <a:lnTo>
                  <a:pt x="2355" y="129"/>
                </a:lnTo>
                <a:lnTo>
                  <a:pt x="2412" y="106"/>
                </a:lnTo>
                <a:lnTo>
                  <a:pt x="2439" y="87"/>
                </a:lnTo>
                <a:lnTo>
                  <a:pt x="2463" y="66"/>
                </a:lnTo>
                <a:lnTo>
                  <a:pt x="2475" y="61"/>
                </a:lnTo>
                <a:lnTo>
                  <a:pt x="2489" y="61"/>
                </a:lnTo>
                <a:lnTo>
                  <a:pt x="2499" y="66"/>
                </a:lnTo>
                <a:lnTo>
                  <a:pt x="2507" y="76"/>
                </a:lnTo>
                <a:lnTo>
                  <a:pt x="2508" y="85"/>
                </a:lnTo>
                <a:lnTo>
                  <a:pt x="2508" y="96"/>
                </a:lnTo>
                <a:lnTo>
                  <a:pt x="2504" y="106"/>
                </a:lnTo>
                <a:lnTo>
                  <a:pt x="2490" y="118"/>
                </a:lnTo>
                <a:lnTo>
                  <a:pt x="2463" y="139"/>
                </a:lnTo>
                <a:lnTo>
                  <a:pt x="2429" y="160"/>
                </a:lnTo>
                <a:lnTo>
                  <a:pt x="2399" y="172"/>
                </a:lnTo>
                <a:lnTo>
                  <a:pt x="2352" y="183"/>
                </a:lnTo>
                <a:lnTo>
                  <a:pt x="2298" y="186"/>
                </a:lnTo>
                <a:lnTo>
                  <a:pt x="2238" y="184"/>
                </a:lnTo>
                <a:lnTo>
                  <a:pt x="2192" y="180"/>
                </a:lnTo>
                <a:lnTo>
                  <a:pt x="2156" y="172"/>
                </a:lnTo>
                <a:lnTo>
                  <a:pt x="2114" y="156"/>
                </a:lnTo>
                <a:lnTo>
                  <a:pt x="2076" y="133"/>
                </a:lnTo>
                <a:lnTo>
                  <a:pt x="2049" y="112"/>
                </a:lnTo>
                <a:lnTo>
                  <a:pt x="2018" y="87"/>
                </a:lnTo>
                <a:lnTo>
                  <a:pt x="1977" y="67"/>
                </a:lnTo>
                <a:lnTo>
                  <a:pt x="1934" y="55"/>
                </a:lnTo>
                <a:lnTo>
                  <a:pt x="1886" y="49"/>
                </a:lnTo>
                <a:lnTo>
                  <a:pt x="1836" y="49"/>
                </a:lnTo>
                <a:lnTo>
                  <a:pt x="1776" y="64"/>
                </a:lnTo>
                <a:lnTo>
                  <a:pt x="1743" y="79"/>
                </a:lnTo>
                <a:lnTo>
                  <a:pt x="1707" y="99"/>
                </a:lnTo>
                <a:lnTo>
                  <a:pt x="1677" y="118"/>
                </a:lnTo>
                <a:lnTo>
                  <a:pt x="1626" y="147"/>
                </a:lnTo>
                <a:lnTo>
                  <a:pt x="1586" y="165"/>
                </a:lnTo>
                <a:lnTo>
                  <a:pt x="1535" y="180"/>
                </a:lnTo>
                <a:lnTo>
                  <a:pt x="1475" y="186"/>
                </a:lnTo>
                <a:lnTo>
                  <a:pt x="1437" y="186"/>
                </a:lnTo>
                <a:lnTo>
                  <a:pt x="1377" y="180"/>
                </a:lnTo>
                <a:lnTo>
                  <a:pt x="1322" y="165"/>
                </a:lnTo>
                <a:lnTo>
                  <a:pt x="1269" y="136"/>
                </a:lnTo>
                <a:lnTo>
                  <a:pt x="1230" y="109"/>
                </a:lnTo>
                <a:lnTo>
                  <a:pt x="1197" y="84"/>
                </a:lnTo>
                <a:lnTo>
                  <a:pt x="1163" y="67"/>
                </a:lnTo>
                <a:lnTo>
                  <a:pt x="1128" y="55"/>
                </a:lnTo>
                <a:lnTo>
                  <a:pt x="1071" y="48"/>
                </a:lnTo>
                <a:lnTo>
                  <a:pt x="1020" y="49"/>
                </a:lnTo>
                <a:lnTo>
                  <a:pt x="974" y="57"/>
                </a:lnTo>
                <a:lnTo>
                  <a:pt x="914" y="78"/>
                </a:lnTo>
                <a:lnTo>
                  <a:pt x="879" y="103"/>
                </a:lnTo>
                <a:lnTo>
                  <a:pt x="831" y="135"/>
                </a:lnTo>
                <a:lnTo>
                  <a:pt x="777" y="166"/>
                </a:lnTo>
                <a:lnTo>
                  <a:pt x="713" y="187"/>
                </a:lnTo>
                <a:lnTo>
                  <a:pt x="659" y="193"/>
                </a:lnTo>
                <a:lnTo>
                  <a:pt x="600" y="195"/>
                </a:lnTo>
                <a:lnTo>
                  <a:pt x="543" y="189"/>
                </a:lnTo>
                <a:lnTo>
                  <a:pt x="494" y="175"/>
                </a:lnTo>
                <a:lnTo>
                  <a:pt x="450" y="154"/>
                </a:lnTo>
                <a:lnTo>
                  <a:pt x="408" y="123"/>
                </a:lnTo>
                <a:lnTo>
                  <a:pt x="377" y="99"/>
                </a:lnTo>
                <a:lnTo>
                  <a:pt x="338" y="79"/>
                </a:lnTo>
                <a:lnTo>
                  <a:pt x="291" y="64"/>
                </a:lnTo>
                <a:lnTo>
                  <a:pt x="251" y="60"/>
                </a:lnTo>
                <a:lnTo>
                  <a:pt x="191" y="58"/>
                </a:lnTo>
                <a:lnTo>
                  <a:pt x="144" y="67"/>
                </a:lnTo>
                <a:lnTo>
                  <a:pt x="96" y="82"/>
                </a:lnTo>
                <a:lnTo>
                  <a:pt x="56" y="108"/>
                </a:lnTo>
                <a:lnTo>
                  <a:pt x="0" y="157"/>
                </a:lnTo>
                <a:lnTo>
                  <a:pt x="5" y="9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Click to edit the title text format</a:t>
            </a:r>
            <a:endParaRPr b="0" lang="en-US" sz="4400" spc="-1" strike="noStrike">
              <a:solidFill>
                <a:srgbClr val="ded911"/>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B36B-9A49-4D87-9B28-B508D61DF8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7958160" y="5029200"/>
            <a:ext cx="746280" cy="1463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db0720"/>
                </a:solidFill>
                <a:latin typeface="Times New Roman"/>
              </a:rPr>
              <a:t>E</a:t>
            </a:r>
            <a:endParaRPr b="0" lang="en-US" sz="9600" spc="-1" strike="noStrike">
              <a:solidFill>
                <a:srgbClr val="ffffff"/>
              </a:solidFill>
              <a:latin typeface="Times New Roman"/>
            </a:endParaRPr>
          </a:p>
        </p:txBody>
      </p:sp>
      <p:grpSp>
        <p:nvGrpSpPr>
          <p:cNvPr id="7" name=""/>
          <p:cNvGrpSpPr/>
          <p:nvPr/>
        </p:nvGrpSpPr>
        <p:grpSpPr>
          <a:xfrm>
            <a:off x="7010280" y="3352680"/>
            <a:ext cx="1490400" cy="3368520"/>
            <a:chOff x="7010280" y="3352680"/>
            <a:chExt cx="1490400" cy="3368520"/>
          </a:xfrm>
        </p:grpSpPr>
        <p:sp>
          <p:nvSpPr>
            <p:cNvPr id="8" name=""/>
            <p:cNvSpPr/>
            <p:nvPr/>
          </p:nvSpPr>
          <p:spPr>
            <a:xfrm>
              <a:off x="7416720" y="5181480"/>
              <a:ext cx="8132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9900"/>
                  </a:solidFill>
                  <a:latin typeface="Century Schoolbook"/>
                </a:rPr>
                <a:t>V</a:t>
              </a:r>
              <a:endParaRPr b="0" lang="en-US" sz="9600" spc="-1" strike="noStrike">
                <a:solidFill>
                  <a:srgbClr val="ffffff"/>
                </a:solidFill>
                <a:latin typeface="Times New Roman"/>
              </a:endParaRPr>
            </a:p>
          </p:txBody>
        </p:sp>
        <p:sp>
          <p:nvSpPr>
            <p:cNvPr id="9" name=""/>
            <p:cNvSpPr/>
            <p:nvPr/>
          </p:nvSpPr>
          <p:spPr>
            <a:xfrm>
              <a:off x="7010280" y="5257800"/>
              <a:ext cx="880560" cy="1463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ded911"/>
                  </a:solidFill>
                  <a:latin typeface="Times New Roman"/>
                </a:rPr>
                <a:t>O</a:t>
              </a:r>
              <a:endParaRPr b="0" lang="en-US" sz="9600" spc="-1" strike="noStrike">
                <a:solidFill>
                  <a:srgbClr val="ffffff"/>
                </a:solidFill>
                <a:latin typeface="Times New Roman"/>
              </a:endParaRPr>
            </a:p>
          </p:txBody>
        </p:sp>
        <p:sp>
          <p:nvSpPr>
            <p:cNvPr id="10" name=""/>
            <p:cNvSpPr/>
            <p:nvPr/>
          </p:nvSpPr>
          <p:spPr>
            <a:xfrm>
              <a:off x="8499600" y="3352680"/>
              <a:ext cx="1080" cy="36540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grpSp>
      <p:sp>
        <p:nvSpPr>
          <p:cNvPr id="11" name=""/>
          <p:cNvSpPr/>
          <p:nvPr/>
        </p:nvSpPr>
        <p:spPr>
          <a:xfrm>
            <a:off x="6469200" y="5394240"/>
            <a:ext cx="1015920" cy="1463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21ef0"/>
                </a:solidFill>
                <a:latin typeface="Times New Roman"/>
              </a:rPr>
              <a:t>M</a:t>
            </a:r>
            <a:endParaRPr b="0" lang="en-US" sz="9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grpSp>
        <p:nvGrpSpPr>
          <p:cNvPr id="48" name=""/>
          <p:cNvGrpSpPr/>
          <p:nvPr/>
        </p:nvGrpSpPr>
        <p:grpSpPr>
          <a:xfrm>
            <a:off x="0" y="2259000"/>
            <a:ext cx="9142560" cy="4597560"/>
            <a:chOff x="0" y="2259000"/>
            <a:chExt cx="9142560" cy="4597560"/>
          </a:xfrm>
        </p:grpSpPr>
        <p:pic>
          <p:nvPicPr>
            <p:cNvPr id="49" name="" descr=""/>
            <p:cNvPicPr/>
            <p:nvPr/>
          </p:nvPicPr>
          <p:blipFill>
            <a:blip r:embed="rId2"/>
            <a:srcRect l="0" t="0" r="27345" b="11442"/>
            <a:stretch/>
          </p:blipFill>
          <p:spPr>
            <a:xfrm>
              <a:off x="6311880" y="2259000"/>
              <a:ext cx="2830680" cy="4597560"/>
            </a:xfrm>
            <a:prstGeom prst="rect">
              <a:avLst/>
            </a:prstGeom>
            <a:ln w="0">
              <a:noFill/>
            </a:ln>
          </p:spPr>
        </p:pic>
        <p:sp>
          <p:nvSpPr>
            <p:cNvPr id="50" name=""/>
            <p:cNvSpPr/>
            <p:nvPr/>
          </p:nvSpPr>
          <p:spPr>
            <a:xfrm>
              <a:off x="0" y="5362560"/>
              <a:ext cx="3983040" cy="311040"/>
            </a:xfrm>
            <a:custGeom>
              <a:avLst/>
              <a:gdLst/>
              <a:ahLst/>
              <a:rect l="l" t="t" r="r" b="b"/>
              <a:pathLst>
                <a:path w="2509" h="196">
                  <a:moveTo>
                    <a:pt x="5" y="93"/>
                  </a:moveTo>
                  <a:lnTo>
                    <a:pt x="39" y="61"/>
                  </a:lnTo>
                  <a:lnTo>
                    <a:pt x="71" y="43"/>
                  </a:lnTo>
                  <a:lnTo>
                    <a:pt x="104" y="28"/>
                  </a:lnTo>
                  <a:lnTo>
                    <a:pt x="144" y="18"/>
                  </a:lnTo>
                  <a:lnTo>
                    <a:pt x="182" y="13"/>
                  </a:lnTo>
                  <a:lnTo>
                    <a:pt x="227" y="10"/>
                  </a:lnTo>
                  <a:lnTo>
                    <a:pt x="281" y="13"/>
                  </a:lnTo>
                  <a:lnTo>
                    <a:pt x="321" y="22"/>
                  </a:lnTo>
                  <a:lnTo>
                    <a:pt x="357" y="34"/>
                  </a:lnTo>
                  <a:lnTo>
                    <a:pt x="408" y="60"/>
                  </a:lnTo>
                  <a:lnTo>
                    <a:pt x="440" y="85"/>
                  </a:lnTo>
                  <a:lnTo>
                    <a:pt x="474" y="111"/>
                  </a:lnTo>
                  <a:lnTo>
                    <a:pt x="509" y="129"/>
                  </a:lnTo>
                  <a:lnTo>
                    <a:pt x="561" y="142"/>
                  </a:lnTo>
                  <a:lnTo>
                    <a:pt x="626" y="148"/>
                  </a:lnTo>
                  <a:lnTo>
                    <a:pt x="677" y="145"/>
                  </a:lnTo>
                  <a:lnTo>
                    <a:pt x="728" y="135"/>
                  </a:lnTo>
                  <a:lnTo>
                    <a:pt x="770" y="117"/>
                  </a:lnTo>
                  <a:lnTo>
                    <a:pt x="806" y="93"/>
                  </a:lnTo>
                  <a:lnTo>
                    <a:pt x="860" y="57"/>
                  </a:lnTo>
                  <a:lnTo>
                    <a:pt x="899" y="36"/>
                  </a:lnTo>
                  <a:lnTo>
                    <a:pt x="950" y="13"/>
                  </a:lnTo>
                  <a:lnTo>
                    <a:pt x="998" y="4"/>
                  </a:lnTo>
                  <a:lnTo>
                    <a:pt x="1043" y="3"/>
                  </a:lnTo>
                  <a:lnTo>
                    <a:pt x="1119" y="6"/>
                  </a:lnTo>
                  <a:lnTo>
                    <a:pt x="1181" y="21"/>
                  </a:lnTo>
                  <a:lnTo>
                    <a:pt x="1214" y="39"/>
                  </a:lnTo>
                  <a:lnTo>
                    <a:pt x="1260" y="66"/>
                  </a:lnTo>
                  <a:lnTo>
                    <a:pt x="1308" y="102"/>
                  </a:lnTo>
                  <a:lnTo>
                    <a:pt x="1349" y="121"/>
                  </a:lnTo>
                  <a:lnTo>
                    <a:pt x="1403" y="133"/>
                  </a:lnTo>
                  <a:lnTo>
                    <a:pt x="1458" y="138"/>
                  </a:lnTo>
                  <a:lnTo>
                    <a:pt x="1514" y="133"/>
                  </a:lnTo>
                  <a:lnTo>
                    <a:pt x="1557" y="123"/>
                  </a:lnTo>
                  <a:lnTo>
                    <a:pt x="1593" y="111"/>
                  </a:lnTo>
                  <a:lnTo>
                    <a:pt x="1635" y="84"/>
                  </a:lnTo>
                  <a:lnTo>
                    <a:pt x="1668" y="61"/>
                  </a:lnTo>
                  <a:lnTo>
                    <a:pt x="1704" y="39"/>
                  </a:lnTo>
                  <a:lnTo>
                    <a:pt x="1754" y="18"/>
                  </a:lnTo>
                  <a:lnTo>
                    <a:pt x="1794" y="6"/>
                  </a:lnTo>
                  <a:lnTo>
                    <a:pt x="1844" y="1"/>
                  </a:lnTo>
                  <a:lnTo>
                    <a:pt x="1907" y="0"/>
                  </a:lnTo>
                  <a:lnTo>
                    <a:pt x="1958" y="4"/>
                  </a:lnTo>
                  <a:lnTo>
                    <a:pt x="2003" y="18"/>
                  </a:lnTo>
                  <a:lnTo>
                    <a:pt x="2039" y="33"/>
                  </a:lnTo>
                  <a:lnTo>
                    <a:pt x="2073" y="54"/>
                  </a:lnTo>
                  <a:lnTo>
                    <a:pt x="2118" y="88"/>
                  </a:lnTo>
                  <a:lnTo>
                    <a:pt x="2153" y="109"/>
                  </a:lnTo>
                  <a:lnTo>
                    <a:pt x="2192" y="124"/>
                  </a:lnTo>
                  <a:lnTo>
                    <a:pt x="2244" y="135"/>
                  </a:lnTo>
                  <a:lnTo>
                    <a:pt x="2303" y="138"/>
                  </a:lnTo>
                  <a:lnTo>
                    <a:pt x="2355" y="129"/>
                  </a:lnTo>
                  <a:lnTo>
                    <a:pt x="2412" y="106"/>
                  </a:lnTo>
                  <a:lnTo>
                    <a:pt x="2439" y="87"/>
                  </a:lnTo>
                  <a:lnTo>
                    <a:pt x="2463" y="66"/>
                  </a:lnTo>
                  <a:lnTo>
                    <a:pt x="2475" y="61"/>
                  </a:lnTo>
                  <a:lnTo>
                    <a:pt x="2489" y="61"/>
                  </a:lnTo>
                  <a:lnTo>
                    <a:pt x="2499" y="66"/>
                  </a:lnTo>
                  <a:lnTo>
                    <a:pt x="2507" y="76"/>
                  </a:lnTo>
                  <a:lnTo>
                    <a:pt x="2508" y="85"/>
                  </a:lnTo>
                  <a:lnTo>
                    <a:pt x="2508" y="96"/>
                  </a:lnTo>
                  <a:lnTo>
                    <a:pt x="2504" y="106"/>
                  </a:lnTo>
                  <a:lnTo>
                    <a:pt x="2490" y="118"/>
                  </a:lnTo>
                  <a:lnTo>
                    <a:pt x="2463" y="139"/>
                  </a:lnTo>
                  <a:lnTo>
                    <a:pt x="2429" y="160"/>
                  </a:lnTo>
                  <a:lnTo>
                    <a:pt x="2399" y="172"/>
                  </a:lnTo>
                  <a:lnTo>
                    <a:pt x="2352" y="183"/>
                  </a:lnTo>
                  <a:lnTo>
                    <a:pt x="2298" y="186"/>
                  </a:lnTo>
                  <a:lnTo>
                    <a:pt x="2238" y="184"/>
                  </a:lnTo>
                  <a:lnTo>
                    <a:pt x="2192" y="180"/>
                  </a:lnTo>
                  <a:lnTo>
                    <a:pt x="2156" y="172"/>
                  </a:lnTo>
                  <a:lnTo>
                    <a:pt x="2114" y="156"/>
                  </a:lnTo>
                  <a:lnTo>
                    <a:pt x="2076" y="133"/>
                  </a:lnTo>
                  <a:lnTo>
                    <a:pt x="2049" y="112"/>
                  </a:lnTo>
                  <a:lnTo>
                    <a:pt x="2018" y="87"/>
                  </a:lnTo>
                  <a:lnTo>
                    <a:pt x="1977" y="67"/>
                  </a:lnTo>
                  <a:lnTo>
                    <a:pt x="1934" y="55"/>
                  </a:lnTo>
                  <a:lnTo>
                    <a:pt x="1886" y="49"/>
                  </a:lnTo>
                  <a:lnTo>
                    <a:pt x="1836" y="49"/>
                  </a:lnTo>
                  <a:lnTo>
                    <a:pt x="1776" y="64"/>
                  </a:lnTo>
                  <a:lnTo>
                    <a:pt x="1743" y="79"/>
                  </a:lnTo>
                  <a:lnTo>
                    <a:pt x="1707" y="99"/>
                  </a:lnTo>
                  <a:lnTo>
                    <a:pt x="1677" y="118"/>
                  </a:lnTo>
                  <a:lnTo>
                    <a:pt x="1626" y="147"/>
                  </a:lnTo>
                  <a:lnTo>
                    <a:pt x="1586" y="165"/>
                  </a:lnTo>
                  <a:lnTo>
                    <a:pt x="1535" y="180"/>
                  </a:lnTo>
                  <a:lnTo>
                    <a:pt x="1475" y="186"/>
                  </a:lnTo>
                  <a:lnTo>
                    <a:pt x="1437" y="186"/>
                  </a:lnTo>
                  <a:lnTo>
                    <a:pt x="1377" y="180"/>
                  </a:lnTo>
                  <a:lnTo>
                    <a:pt x="1322" y="165"/>
                  </a:lnTo>
                  <a:lnTo>
                    <a:pt x="1269" y="136"/>
                  </a:lnTo>
                  <a:lnTo>
                    <a:pt x="1230" y="109"/>
                  </a:lnTo>
                  <a:lnTo>
                    <a:pt x="1197" y="84"/>
                  </a:lnTo>
                  <a:lnTo>
                    <a:pt x="1163" y="67"/>
                  </a:lnTo>
                  <a:lnTo>
                    <a:pt x="1128" y="55"/>
                  </a:lnTo>
                  <a:lnTo>
                    <a:pt x="1071" y="48"/>
                  </a:lnTo>
                  <a:lnTo>
                    <a:pt x="1020" y="49"/>
                  </a:lnTo>
                  <a:lnTo>
                    <a:pt x="974" y="57"/>
                  </a:lnTo>
                  <a:lnTo>
                    <a:pt x="914" y="78"/>
                  </a:lnTo>
                  <a:lnTo>
                    <a:pt x="879" y="103"/>
                  </a:lnTo>
                  <a:lnTo>
                    <a:pt x="831" y="135"/>
                  </a:lnTo>
                  <a:lnTo>
                    <a:pt x="777" y="166"/>
                  </a:lnTo>
                  <a:lnTo>
                    <a:pt x="713" y="187"/>
                  </a:lnTo>
                  <a:lnTo>
                    <a:pt x="659" y="193"/>
                  </a:lnTo>
                  <a:lnTo>
                    <a:pt x="600" y="195"/>
                  </a:lnTo>
                  <a:lnTo>
                    <a:pt x="543" y="189"/>
                  </a:lnTo>
                  <a:lnTo>
                    <a:pt x="494" y="175"/>
                  </a:lnTo>
                  <a:lnTo>
                    <a:pt x="450" y="154"/>
                  </a:lnTo>
                  <a:lnTo>
                    <a:pt x="408" y="123"/>
                  </a:lnTo>
                  <a:lnTo>
                    <a:pt x="377" y="99"/>
                  </a:lnTo>
                  <a:lnTo>
                    <a:pt x="338" y="79"/>
                  </a:lnTo>
                  <a:lnTo>
                    <a:pt x="291" y="64"/>
                  </a:lnTo>
                  <a:lnTo>
                    <a:pt x="251" y="60"/>
                  </a:lnTo>
                  <a:lnTo>
                    <a:pt x="191" y="58"/>
                  </a:lnTo>
                  <a:lnTo>
                    <a:pt x="144" y="67"/>
                  </a:lnTo>
                  <a:lnTo>
                    <a:pt x="96" y="82"/>
                  </a:lnTo>
                  <a:lnTo>
                    <a:pt x="56" y="108"/>
                  </a:lnTo>
                  <a:lnTo>
                    <a:pt x="0" y="157"/>
                  </a:lnTo>
                  <a:lnTo>
                    <a:pt x="5" y="93"/>
                  </a:lnTo>
                </a:path>
              </a:pathLst>
            </a:custGeom>
            <a:solidFill>
              <a:srgbClr val="7f796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1" name="" descr=""/>
            <p:cNvPicPr/>
            <p:nvPr/>
          </p:nvPicPr>
          <p:blipFill>
            <a:blip r:embed="rId3"/>
            <a:stretch/>
          </p:blipFill>
          <p:spPr>
            <a:xfrm>
              <a:off x="0" y="3486240"/>
              <a:ext cx="4390920" cy="342720"/>
            </a:xfrm>
            <a:prstGeom prst="rect">
              <a:avLst/>
            </a:prstGeom>
            <a:ln w="0">
              <a:noFill/>
            </a:ln>
          </p:spPr>
        </p:pic>
      </p:grpSp>
      <p:sp>
        <p:nvSpPr>
          <p:cNvPr id="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Arial"/>
              </a:rPr>
              <a:t>Click to edit the title text format</a:t>
            </a:r>
            <a:endParaRPr b="0" lang="en-US" sz="4400" spc="-1" strike="noStrike">
              <a:solidFill>
                <a:srgbClr val="ded911"/>
              </a:solidFill>
              <a:latin typeface="Arial"/>
            </a:endParaRPr>
          </a:p>
        </p:txBody>
      </p:sp>
      <p:sp>
        <p:nvSpPr>
          <p:cNvPr id="5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5717-A2CB-4811-97A6-C19885AFB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d911"/>
                </a:solidFill>
                <a:latin typeface="Times New Roman"/>
              </a:rPr>
              <a:t>Promoting Lifestyle </a:t>
            </a:r>
            <a:br>
              <a:rPr sz="4400"/>
            </a:br>
            <a:r>
              <a:rPr b="1" lang="en-US" sz="4400" spc="-1" strike="noStrike">
                <a:solidFill>
                  <a:srgbClr val="ded911"/>
                </a:solidFill>
                <a:latin typeface="Times New Roman"/>
              </a:rPr>
              <a:t>Activity for Youth</a:t>
            </a:r>
            <a:endParaRPr b="0" lang="en-US" sz="4400" spc="-1" strike="noStrike">
              <a:solidFill>
                <a:srgbClr val="ded911"/>
              </a:solidFill>
              <a:latin typeface="Times New Roman"/>
            </a:endParaRPr>
          </a:p>
        </p:txBody>
      </p:sp>
      <p:sp>
        <p:nvSpPr>
          <p:cNvPr id="100" name="PlaceHolder 2"/>
          <p:cNvSpPr>
            <a:spLocks noGrp="1"/>
          </p:cNvSpPr>
          <p:nvPr>
            <p:ph/>
          </p:nvPr>
        </p:nvSpPr>
        <p:spPr>
          <a:xfrm>
            <a:off x="642960" y="2819160"/>
            <a:ext cx="7772400" cy="32763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ert P. Pangrazi</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Kinesiology</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izona State University</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mpe, AZ  85287-070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Limiting Factors on Performance</a:t>
            </a:r>
            <a:endParaRPr b="0" lang="en-US" sz="4400" spc="-1" strike="noStrike">
              <a:solidFill>
                <a:srgbClr val="ded911"/>
              </a:solidFill>
              <a:latin typeface="Times New Roman"/>
            </a:endParaRPr>
          </a:p>
        </p:txBody>
      </p:sp>
      <p:graphicFrame>
        <p:nvGraphicFramePr>
          <p:cNvPr id="119" name=""/>
          <p:cNvGraphicFramePr/>
          <p:nvPr/>
        </p:nvGraphicFramePr>
        <p:xfrm>
          <a:off x="642960" y="1981080"/>
          <a:ext cx="7772400" cy="4114800"/>
        </p:xfrm>
        <a:graphic>
          <a:graphicData uri="http://schemas.openxmlformats.org/presentationml/2006/ole">
            <p:oleObj r:id="rId1" spid="">
              <p:embed/>
              <p:pic>
                <p:nvPicPr>
                  <p:cNvPr id="120" name="" descr=""/>
                  <p:cNvPicPr/>
                  <p:nvPr/>
                </p:nvPicPr>
                <p:blipFill>
                  <a:blip r:embed="rId2"/>
                  <a:stretch/>
                </p:blipFill>
                <p:spPr>
                  <a:xfrm>
                    <a:off x="64296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base">
                                        <p:cTn id="7" dur="500" fill="hold"/>
                                        <p:tgtEl>
                                          <p:spTgt spid="120"/>
                                        </p:tgtEl>
                                        <p:attrNameLst>
                                          <p:attrName>ppt_x</p:attrName>
                                        </p:attrNameLst>
                                      </p:cBhvr>
                                      <p:tavLst>
                                        <p:tav tm="0">
                                          <p:val>
                                            <p:strVal val="#ppt_x"/>
                                          </p:val>
                                        </p:tav>
                                        <p:tav tm="100000">
                                          <p:val>
                                            <p:strVal val="#ppt_x"/>
                                          </p:val>
                                        </p:tav>
                                      </p:tavLst>
                                    </p:anim>
                                    <p:anim calcmode="lin" valueType="num">
                                      <p:cBhvr additive="base">
                                        <p:cTn id="8"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Mass Prescription</a:t>
            </a:r>
            <a:endParaRPr b="0" lang="en-US" sz="4400" spc="-1" strike="noStrike">
              <a:solidFill>
                <a:srgbClr val="ded911"/>
              </a:solidFill>
              <a:latin typeface="Times New Roman"/>
            </a:endParaRPr>
          </a:p>
        </p:txBody>
      </p:sp>
      <p:sp>
        <p:nvSpPr>
          <p:cNvPr id="122"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s all people need the same workloa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s one fitness battery measures many different sizes and shapes of peop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mes we know the correct workload for all of our stud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s away exercise independence – the motivation to keep activ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Is Fitness the Right Goal </a:t>
            </a:r>
            <a:br>
              <a:rPr sz="4000"/>
            </a:br>
            <a:r>
              <a:rPr b="0" lang="en-US" sz="4000" spc="-1" strike="noStrike">
                <a:solidFill>
                  <a:srgbClr val="ded911"/>
                </a:solidFill>
                <a:latin typeface="Times New Roman"/>
              </a:rPr>
              <a:t>for Inactive Youth?</a:t>
            </a:r>
            <a:endParaRPr b="0" lang="en-US" sz="4000" spc="-1" strike="noStrike">
              <a:solidFill>
                <a:srgbClr val="ded911"/>
              </a:solidFill>
              <a:latin typeface="Times New Roman"/>
            </a:endParaRPr>
          </a:p>
        </p:txBody>
      </p:sp>
      <p:sp>
        <p:nvSpPr>
          <p:cNvPr id="124"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tness is a product that many can’t reach, no matter how hard they try – so they quit try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people are non-responders to fitness activ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of the tests are not appropriate for obese youngsters</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Obese Youth &amp; Fitness – U.S.</a:t>
            </a:r>
            <a:endParaRPr b="0" lang="en-US" sz="4400" spc="-1" strike="noStrike">
              <a:solidFill>
                <a:srgbClr val="ded911"/>
              </a:solidFill>
              <a:latin typeface="Times New Roman"/>
            </a:endParaRPr>
          </a:p>
        </p:txBody>
      </p:sp>
      <p:sp>
        <p:nvSpPr>
          <p:cNvPr id="126"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esity is rapidly increasing among youth in the 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ilure on a fitness test discourages obese youth  – goals are unrealistic for th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vy emphasis on fitness has not reduced obesity among youth – It has tripled nationally in the last 20+ yea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89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hy Lifestyle Activity?</a:t>
            </a:r>
            <a:endParaRPr b="0" lang="en-US" sz="4400" spc="-1" strike="noStrike">
              <a:solidFill>
                <a:srgbClr val="ded911"/>
              </a:solidFill>
              <a:latin typeface="Times New Roman"/>
            </a:endParaRPr>
          </a:p>
        </p:txBody>
      </p:sp>
      <p:sp>
        <p:nvSpPr>
          <p:cNvPr id="128"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active people have twice the risk of developing heart disease</a:t>
            </a:r>
            <a:endParaRPr b="0"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activity is a primary risk factor for heart disease </a:t>
            </a:r>
            <a:r>
              <a:rPr b="0" lang="en-US" sz="2200" spc="-1" strike="noStrike">
                <a:solidFill>
                  <a:srgbClr val="ffffff"/>
                </a:solidFill>
                <a:latin typeface="Times New Roman"/>
              </a:rPr>
              <a:t>(</a:t>
            </a:r>
            <a:r>
              <a:rPr b="0" lang="en-US" sz="2600" spc="-1" strike="noStrike">
                <a:solidFill>
                  <a:srgbClr val="ffffff"/>
                </a:solidFill>
                <a:latin typeface="Times New Roman"/>
              </a:rPr>
              <a:t>so are smoking, high blood pressure, and high cholesterol</a:t>
            </a:r>
            <a:endParaRPr b="0" lang="en-US" sz="26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duces risk of cancer and diabetes</a:t>
            </a:r>
            <a:endParaRPr b="0"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mproves posture and reduces lower back pain</a:t>
            </a:r>
            <a:endParaRPr b="0" lang="en-US" sz="30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s as effective as psychotherapy for treating depression</a:t>
            </a:r>
            <a:endParaRPr b="0" lang="en-US" sz="3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Physical Activity: Youth &amp; Adults Differ</a:t>
            </a:r>
            <a:endParaRPr b="0" lang="en-US" sz="4400" spc="-1" strike="noStrike">
              <a:solidFill>
                <a:srgbClr val="ded911"/>
              </a:solidFill>
              <a:latin typeface="Times New Roman"/>
            </a:endParaRPr>
          </a:p>
        </p:txBody>
      </p:sp>
      <p:sp>
        <p:nvSpPr>
          <p:cNvPr id="130"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s participate in low volume - high intensity activity (fitness-based activiti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th participate in high volume - low intensity activity (movement-based activiti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th don’t like extended bouts of high intensity activity (particularly inactive youth)</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th naturally move in high-low intensity activity patterns (may stimulate growth, Bailey, et.al., 1995)</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Activity Is for All Students</a:t>
            </a:r>
            <a:endParaRPr b="0" lang="en-US" sz="4400" spc="-1" strike="noStrike">
              <a:solidFill>
                <a:srgbClr val="ded911"/>
              </a:solidFill>
              <a:latin typeface="Times New Roman"/>
            </a:endParaRPr>
          </a:p>
        </p:txBody>
      </p:sp>
      <p:sp>
        <p:nvSpPr>
          <p:cNvPr id="132"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gular activity for youth increases the probability of an active adult lifestyle (Raitakari, et al., 1994; Telama, et al., 1997)</a:t>
            </a:r>
            <a:endParaRPr b="0" lang="en-US" sz="30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outh who are active at 3 or 4 years of age, are more active as adults (Pate, et al., 1996)</a:t>
            </a:r>
            <a:endParaRPr b="0" lang="en-US" sz="30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oderate activity offers lifetime benefits</a:t>
            </a:r>
            <a:endParaRPr b="0" lang="en-US" sz="30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ctivity helps those who need it most - unskilled and obese youth</a:t>
            </a:r>
            <a:endParaRPr b="0" lang="en-US" sz="3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Our Focus: Fitness or Activity?</a:t>
            </a:r>
            <a:endParaRPr b="0" lang="en-US" sz="4400" spc="-1" strike="noStrike">
              <a:solidFill>
                <a:srgbClr val="ded911"/>
              </a:solidFill>
              <a:latin typeface="Times New Roman"/>
            </a:endParaRPr>
          </a:p>
        </p:txBody>
      </p:sp>
      <p:sp>
        <p:nvSpPr>
          <p:cNvPr id="134"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youth fail fitness tests, they are labeled as unfit; being identified as inactive is less derogator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tness is controlled genetically; activity is for all students regardless of abilit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tness is comparative; activity is individual and persona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tness is short term; activity is long term</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Our Focus: Fitness or Activity?</a:t>
            </a:r>
            <a:endParaRPr b="0" lang="en-US" sz="4400" spc="-1" strike="noStrike">
              <a:solidFill>
                <a:srgbClr val="ded911"/>
              </a:solidFill>
              <a:latin typeface="Times New Roman"/>
            </a:endParaRPr>
          </a:p>
        </p:txBody>
      </p:sp>
      <p:sp>
        <p:nvSpPr>
          <p:cNvPr id="136"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ity can be monitored; fitness testing is difficult and inaccurat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ity can be done outside of physical education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ity needs to be valued as much as intense exercise or sport related activi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ity is a lifetime activity</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hat is Lifestyle Activity?</a:t>
            </a:r>
            <a:endParaRPr b="0" lang="en-US" sz="4400" spc="-1" strike="noStrike">
              <a:solidFill>
                <a:srgbClr val="ded911"/>
              </a:solidFill>
              <a:latin typeface="Times New Roman"/>
            </a:endParaRPr>
          </a:p>
        </p:txBody>
      </p:sp>
      <p:sp>
        <p:nvSpPr>
          <p:cNvPr id="138"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rate, intermittent, and success oriented</a:t>
            </a:r>
            <a:endParaRPr b="0" lang="en-US" sz="3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activity is valued</a:t>
            </a:r>
            <a:endParaRPr b="0" lang="en-US" sz="3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nce of strength, flexibility, and aerobic activities</a:t>
            </a:r>
            <a:endParaRPr b="0" lang="en-US" sz="3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ures expenditure of 6 to 8 kcal/kg/day</a:t>
            </a:r>
            <a:endParaRPr b="0" lang="en-US" sz="3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orporates everyday activities, i.e., walking, riding bike, etc.</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graphicFrame>
        <p:nvGraphicFramePr>
          <p:cNvPr id="101" name=""/>
          <p:cNvGraphicFramePr/>
          <p:nvPr/>
        </p:nvGraphicFramePr>
        <p:xfrm>
          <a:off x="838080" y="1447920"/>
          <a:ext cx="7467840" cy="4114800"/>
        </p:xfrm>
        <a:graphic>
          <a:graphicData uri="http://schemas.openxmlformats.org/presentationml/2006/ole">
            <p:oleObj r:id="rId1" spid="">
              <p:embed/>
              <p:pic>
                <p:nvPicPr>
                  <p:cNvPr id="102" name="" descr=""/>
                  <p:cNvPicPr/>
                  <p:nvPr/>
                </p:nvPicPr>
                <p:blipFill>
                  <a:blip r:embed="rId2"/>
                  <a:stretch/>
                </p:blipFill>
                <p:spPr>
                  <a:xfrm>
                    <a:off x="838080" y="1447920"/>
                    <a:ext cx="7467840" cy="4114800"/>
                  </a:xfrm>
                  <a:prstGeom prst="rect">
                    <a:avLst/>
                  </a:prstGeom>
                  <a:ln w="0">
                    <a:noFill/>
                  </a:ln>
                </p:spPr>
              </p:pic>
            </p:oleObj>
          </a:graphicData>
        </a:graphic>
      </p:graphicFrame>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Greetings from Arizona!</a:t>
            </a:r>
            <a:endParaRPr b="0" lang="en-US" sz="4400" spc="-1" strike="noStrike">
              <a:solidFill>
                <a:srgbClr val="ded9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U.S., Sweden, and Australia</a:t>
            </a:r>
            <a:br>
              <a:rPr sz="4000"/>
            </a:br>
            <a:r>
              <a:rPr b="0" lang="en-US" sz="4000" spc="-1" strike="noStrike">
                <a:solidFill>
                  <a:srgbClr val="ded911"/>
                </a:solidFill>
                <a:latin typeface="Times New Roman"/>
              </a:rPr>
              <a:t>Youth Activity Study</a:t>
            </a:r>
            <a:endParaRPr b="0" lang="en-US" sz="4000" spc="-1" strike="noStrike">
              <a:solidFill>
                <a:srgbClr val="ded911"/>
              </a:solidFill>
              <a:latin typeface="Times New Roman"/>
            </a:endParaRPr>
          </a:p>
        </p:txBody>
      </p:sp>
      <p:sp>
        <p:nvSpPr>
          <p:cNvPr id="140"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on school age youth in each count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ometer (Yamax 2000) step counts and BMI</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gathered using the same protoco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a gathered during the fall season in each count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Number of Participants</a:t>
            </a:r>
            <a:endParaRPr b="0" lang="en-US" sz="4400" spc="-1" strike="noStrike">
              <a:solidFill>
                <a:srgbClr val="ded911"/>
              </a:solidFill>
              <a:latin typeface="Times New Roman"/>
            </a:endParaRPr>
          </a:p>
        </p:txBody>
      </p:sp>
      <p:graphicFrame>
        <p:nvGraphicFramePr>
          <p:cNvPr id="142" name=""/>
          <p:cNvGraphicFramePr/>
          <p:nvPr/>
        </p:nvGraphicFramePr>
        <p:xfrm>
          <a:off x="609480" y="1676520"/>
          <a:ext cx="7772400" cy="4114800"/>
        </p:xfrm>
        <a:graphic>
          <a:graphicData uri="http://schemas.openxmlformats.org/drawingml/2006/table">
            <a:tbl>
              <a:tblPr/>
              <a:tblGrid>
                <a:gridCol w="2590920"/>
                <a:gridCol w="2590560"/>
                <a:gridCol w="2590920"/>
              </a:tblGrid>
              <a:tr h="1028880">
                <a:tc>
                  <a:txBody>
                    <a:bodyPr lIns="92160" rIns="92160" tIns="46080" bIns="460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les</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emales</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1028520">
                <a:tc>
                  <a:txBody>
                    <a:bodyPr lIns="92160" rIns="92160" tIns="46080" bIns="460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ustralia</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81</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85</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1028880">
                <a:tc>
                  <a:txBody>
                    <a:bodyPr lIns="92160" rIns="92160" tIns="46080" bIns="460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25</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86</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r h="1028520">
                <a:tc>
                  <a:txBody>
                    <a:bodyPr lIns="92160" rIns="92160" tIns="46080" bIns="460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weden</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61</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c>
                  <a:txBody>
                    <a:bodyPr lIns="92160" rIns="92160" tIns="46080" bIns="4608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40</a:t>
                      </a:r>
                      <a:endParaRPr b="0" lang="en-US" sz="3600" spc="-1" strike="noStrike">
                        <a:solidFill>
                          <a:srgbClr val="ffffff"/>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Step Counts by Age &amp; Country Females  -  Means</a:t>
            </a:r>
            <a:endParaRPr b="0" lang="en-US" sz="4000" spc="-1" strike="noStrike">
              <a:solidFill>
                <a:srgbClr val="ded911"/>
              </a:solidFill>
              <a:latin typeface="Times New Roman"/>
            </a:endParaRPr>
          </a:p>
        </p:txBody>
      </p:sp>
      <p:graphicFrame>
        <p:nvGraphicFramePr>
          <p:cNvPr id="144" name=""/>
          <p:cNvGraphicFramePr/>
          <p:nvPr/>
        </p:nvGraphicFramePr>
        <p:xfrm>
          <a:off x="642960" y="1981080"/>
          <a:ext cx="7772400" cy="4114800"/>
        </p:xfrm>
        <a:graphic>
          <a:graphicData uri="http://schemas.openxmlformats.org/presentationml/2006/ole">
            <p:oleObj r:id="rId1" spid="">
              <p:embed/>
              <p:pic>
                <p:nvPicPr>
                  <p:cNvPr id="145" name="" descr=""/>
                  <p:cNvPicPr/>
                  <p:nvPr/>
                </p:nvPicPr>
                <p:blipFill>
                  <a:blip r:embed="rId2"/>
                  <a:stretch/>
                </p:blipFill>
                <p:spPr>
                  <a:xfrm>
                    <a:off x="642960" y="1981080"/>
                    <a:ext cx="7772400" cy="41148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Step Counts by Age &amp; Country</a:t>
            </a:r>
            <a:br>
              <a:rPr sz="4000"/>
            </a:br>
            <a:r>
              <a:rPr b="0" lang="en-US" sz="4000" spc="-1" strike="noStrike">
                <a:solidFill>
                  <a:srgbClr val="ded911"/>
                </a:solidFill>
                <a:latin typeface="Times New Roman"/>
              </a:rPr>
              <a:t> Females – Means for Most Active (MA) and Least Active (LA) Tertiles</a:t>
            </a:r>
            <a:endParaRPr b="0" lang="en-US" sz="4000" spc="-1" strike="noStrike">
              <a:solidFill>
                <a:srgbClr val="ded911"/>
              </a:solidFill>
              <a:latin typeface="Times New Roman"/>
            </a:endParaRPr>
          </a:p>
        </p:txBody>
      </p:sp>
      <p:graphicFrame>
        <p:nvGraphicFramePr>
          <p:cNvPr id="147" name=""/>
          <p:cNvGraphicFramePr/>
          <p:nvPr/>
        </p:nvGraphicFramePr>
        <p:xfrm>
          <a:off x="685800" y="1981080"/>
          <a:ext cx="7772400" cy="4114800"/>
        </p:xfrm>
        <a:graphic>
          <a:graphicData uri="http://schemas.openxmlformats.org/presentationml/2006/ole">
            <p:oleObj r:id="rId1" spid="">
              <p:embed/>
              <p:pic>
                <p:nvPicPr>
                  <p:cNvPr id="148" name="" descr=""/>
                  <p:cNvPicPr/>
                  <p:nvPr/>
                </p:nvPicPr>
                <p:blipFill>
                  <a:blip r:embed="rId2"/>
                  <a:stretch/>
                </p:blipFill>
                <p:spPr>
                  <a:xfrm>
                    <a:off x="68580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Step Counts by Age &amp; Country</a:t>
            </a:r>
            <a:br>
              <a:rPr sz="4000"/>
            </a:br>
            <a:r>
              <a:rPr b="0" lang="en-US" sz="4000" spc="-1" strike="noStrike">
                <a:solidFill>
                  <a:srgbClr val="ded911"/>
                </a:solidFill>
                <a:latin typeface="Times New Roman"/>
              </a:rPr>
              <a:t>Males - Means</a:t>
            </a:r>
            <a:endParaRPr b="0" lang="en-US" sz="4000" spc="-1" strike="noStrike">
              <a:solidFill>
                <a:srgbClr val="ded911"/>
              </a:solidFill>
              <a:latin typeface="Times New Roman"/>
            </a:endParaRPr>
          </a:p>
        </p:txBody>
      </p:sp>
      <p:graphicFrame>
        <p:nvGraphicFramePr>
          <p:cNvPr id="150" name=""/>
          <p:cNvGraphicFramePr/>
          <p:nvPr/>
        </p:nvGraphicFramePr>
        <p:xfrm>
          <a:off x="685800" y="1981080"/>
          <a:ext cx="7772400" cy="4114800"/>
        </p:xfrm>
        <a:graphic>
          <a:graphicData uri="http://schemas.openxmlformats.org/presentationml/2006/ole">
            <p:oleObj r:id="rId1" spid="">
              <p:embed/>
              <p:pic>
                <p:nvPicPr>
                  <p:cNvPr id="151" name="" descr=""/>
                  <p:cNvPicPr/>
                  <p:nvPr/>
                </p:nvPicPr>
                <p:blipFill>
                  <a:blip r:embed="rId2"/>
                  <a:stretch/>
                </p:blipFill>
                <p:spPr>
                  <a:xfrm>
                    <a:off x="685800" y="1981080"/>
                    <a:ext cx="7772400" cy="41148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Step Counts by Age &amp; Country</a:t>
            </a:r>
            <a:br>
              <a:rPr sz="4000"/>
            </a:br>
            <a:r>
              <a:rPr b="0" lang="en-US" sz="4000" spc="-1" strike="noStrike">
                <a:solidFill>
                  <a:srgbClr val="ded911"/>
                </a:solidFill>
                <a:latin typeface="Times New Roman"/>
              </a:rPr>
              <a:t> Males – Means for Most Active (MA) and Least Active (LA) Tertiles</a:t>
            </a:r>
            <a:endParaRPr b="0" lang="en-US" sz="4000" spc="-1" strike="noStrike">
              <a:solidFill>
                <a:srgbClr val="ded911"/>
              </a:solidFill>
              <a:latin typeface="Times New Roman"/>
            </a:endParaRPr>
          </a:p>
        </p:txBody>
      </p:sp>
      <p:graphicFrame>
        <p:nvGraphicFramePr>
          <p:cNvPr id="153" name=""/>
          <p:cNvGraphicFramePr/>
          <p:nvPr/>
        </p:nvGraphicFramePr>
        <p:xfrm>
          <a:off x="642960" y="1981080"/>
          <a:ext cx="7772400" cy="4114800"/>
        </p:xfrm>
        <a:graphic>
          <a:graphicData uri="http://schemas.openxmlformats.org/presentationml/2006/ole">
            <p:oleObj r:id="rId1" spid="">
              <p:embed/>
              <p:pic>
                <p:nvPicPr>
                  <p:cNvPr id="154" name="" descr=""/>
                  <p:cNvPicPr/>
                  <p:nvPr/>
                </p:nvPicPr>
                <p:blipFill>
                  <a:blip r:embed="rId2"/>
                  <a:stretch/>
                </p:blipFill>
                <p:spPr>
                  <a:xfrm>
                    <a:off x="64296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BMI (kg/m</a:t>
            </a:r>
            <a:r>
              <a:rPr b="0" lang="en-US" sz="4000" spc="-1" strike="noStrike" baseline="30000">
                <a:solidFill>
                  <a:srgbClr val="ded911"/>
                </a:solidFill>
                <a:latin typeface="Times New Roman"/>
              </a:rPr>
              <a:t>2</a:t>
            </a:r>
            <a:r>
              <a:rPr b="0" lang="en-US" sz="4000" spc="-1" strike="noStrike">
                <a:solidFill>
                  <a:srgbClr val="ded911"/>
                </a:solidFill>
                <a:latin typeface="Times New Roman"/>
              </a:rPr>
              <a:t>) by Age &amp; Country</a:t>
            </a:r>
            <a:br>
              <a:rPr sz="4000"/>
            </a:br>
            <a:r>
              <a:rPr b="0" lang="en-US" sz="4000" spc="-1" strike="noStrike">
                <a:solidFill>
                  <a:srgbClr val="ded911"/>
                </a:solidFill>
                <a:latin typeface="Times New Roman"/>
              </a:rPr>
              <a:t>Female Means for Most (MA) and Least Active (LA) Tertiles</a:t>
            </a:r>
            <a:endParaRPr b="0" lang="en-US" sz="4000" spc="-1" strike="noStrike">
              <a:solidFill>
                <a:srgbClr val="ded911"/>
              </a:solidFill>
              <a:latin typeface="Times New Roman"/>
            </a:endParaRPr>
          </a:p>
        </p:txBody>
      </p:sp>
      <p:graphicFrame>
        <p:nvGraphicFramePr>
          <p:cNvPr id="156" name=""/>
          <p:cNvGraphicFramePr/>
          <p:nvPr/>
        </p:nvGraphicFramePr>
        <p:xfrm>
          <a:off x="642960" y="1981080"/>
          <a:ext cx="7772400" cy="4114800"/>
        </p:xfrm>
        <a:graphic>
          <a:graphicData uri="http://schemas.openxmlformats.org/presentationml/2006/ole">
            <p:oleObj r:id="rId1" spid="">
              <p:embed/>
              <p:pic>
                <p:nvPicPr>
                  <p:cNvPr id="157" name="" descr=""/>
                  <p:cNvPicPr/>
                  <p:nvPr/>
                </p:nvPicPr>
                <p:blipFill>
                  <a:blip r:embed="rId2"/>
                  <a:stretch/>
                </p:blipFill>
                <p:spPr>
                  <a:xfrm>
                    <a:off x="64296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BMI by Age &amp; Country</a:t>
            </a:r>
            <a:br>
              <a:rPr sz="4000"/>
            </a:br>
            <a:r>
              <a:rPr b="0" lang="en-US" sz="4000" spc="-1" strike="noStrike">
                <a:solidFill>
                  <a:srgbClr val="ded911"/>
                </a:solidFill>
                <a:latin typeface="Times New Roman"/>
              </a:rPr>
              <a:t> Male Means for Most (MA) and Least Active (LA) Tertiles</a:t>
            </a:r>
            <a:endParaRPr b="0" lang="en-US" sz="4000" spc="-1" strike="noStrike">
              <a:solidFill>
                <a:srgbClr val="ded911"/>
              </a:solidFill>
              <a:latin typeface="Times New Roman"/>
            </a:endParaRPr>
          </a:p>
        </p:txBody>
      </p:sp>
      <p:graphicFrame>
        <p:nvGraphicFramePr>
          <p:cNvPr id="159" name=""/>
          <p:cNvGraphicFramePr/>
          <p:nvPr/>
        </p:nvGraphicFramePr>
        <p:xfrm>
          <a:off x="642960" y="1981080"/>
          <a:ext cx="7772400" cy="4114800"/>
        </p:xfrm>
        <a:graphic>
          <a:graphicData uri="http://schemas.openxmlformats.org/presentationml/2006/ole">
            <p:oleObj r:id="rId1" spid="">
              <p:embed/>
              <p:pic>
                <p:nvPicPr>
                  <p:cNvPr id="160" name="" descr=""/>
                  <p:cNvPicPr/>
                  <p:nvPr/>
                </p:nvPicPr>
                <p:blipFill>
                  <a:blip r:embed="rId2"/>
                  <a:stretch/>
                </p:blipFill>
                <p:spPr>
                  <a:xfrm>
                    <a:off x="64296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Stepping Out!</a:t>
            </a:r>
            <a:endParaRPr b="0" lang="en-US" sz="4400" spc="-1" strike="noStrike">
              <a:solidFill>
                <a:srgbClr val="ded911"/>
              </a:solidFill>
              <a:latin typeface="Times New Roman"/>
            </a:endParaRPr>
          </a:p>
        </p:txBody>
      </p:sp>
      <p:sp>
        <p:nvSpPr>
          <p:cNvPr id="162"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dometers are a reasonably priced way to evaluate physical activity objectively and be accountab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measure steps; something every student can accomplis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youth, they are more accurate than recall inventories of activ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Summary</a:t>
            </a:r>
            <a:endParaRPr b="0" lang="en-US" sz="4400" spc="-1" strike="noStrike">
              <a:solidFill>
                <a:srgbClr val="ded911"/>
              </a:solidFill>
              <a:latin typeface="Times New Roman"/>
            </a:endParaRPr>
          </a:p>
        </p:txBody>
      </p:sp>
      <p:sp>
        <p:nvSpPr>
          <p:cNvPr id="164"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viest tertile of boys and girls get much heavier with a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n youth show smaller increases in BMI with a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boys stay active while inactive boys become less activ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and inactive girls maintain their initial activity level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Fitness, Exercise, or Activity?</a:t>
            </a:r>
            <a:endParaRPr b="0" lang="en-US" sz="4400" spc="-1" strike="noStrike">
              <a:solidFill>
                <a:srgbClr val="ded911"/>
              </a:solidFill>
              <a:latin typeface="Times New Roman"/>
            </a:endParaRPr>
          </a:p>
        </p:txBody>
      </p:sp>
      <p:sp>
        <p:nvSpPr>
          <p:cNvPr id="105"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ded9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911"/>
                </a:solidFill>
                <a:latin typeface="Times New Roman"/>
              </a:rPr>
              <a:t>Fitness</a:t>
            </a:r>
            <a:r>
              <a:rPr b="0" lang="en-US" sz="2800" spc="-1" strike="noStrike">
                <a:solidFill>
                  <a:srgbClr val="ffffff"/>
                </a:solidFill>
                <a:latin typeface="Times New Roman"/>
              </a:rPr>
              <a:t>: A set of attributes that people have or achieve relating to their ability to perform physical activity (USDHHS, 1996)</a:t>
            </a:r>
            <a:endParaRPr b="0" lang="en-US" sz="2800" spc="-1" strike="noStrike">
              <a:solidFill>
                <a:srgbClr val="ffffff"/>
              </a:solidFill>
              <a:latin typeface="Times New Roman"/>
            </a:endParaRPr>
          </a:p>
          <a:p>
            <a:pPr marL="343080" indent="-343080">
              <a:spcBef>
                <a:spcPts val="700"/>
              </a:spcBef>
              <a:buClr>
                <a:srgbClr val="ded9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911"/>
                </a:solidFill>
                <a:latin typeface="Times New Roman"/>
              </a:rPr>
              <a:t>Exercise</a:t>
            </a:r>
            <a:r>
              <a:rPr b="0" lang="en-US" sz="2800" spc="-1" strike="noStrike">
                <a:solidFill>
                  <a:srgbClr val="ffffff"/>
                </a:solidFill>
                <a:latin typeface="Times New Roman"/>
              </a:rPr>
              <a:t>: Leisure time physical activity conducted with the intention of developing physical fitness.</a:t>
            </a:r>
            <a:endParaRPr b="0" lang="en-US" sz="2800" spc="-1" strike="noStrike">
              <a:solidFill>
                <a:srgbClr val="ffffff"/>
              </a:solidFill>
              <a:latin typeface="Times New Roman"/>
            </a:endParaRPr>
          </a:p>
          <a:p>
            <a:pPr marL="343080" indent="-343080">
              <a:spcBef>
                <a:spcPts val="700"/>
              </a:spcBef>
              <a:buClr>
                <a:srgbClr val="ded9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d911"/>
                </a:solidFill>
                <a:latin typeface="Times New Roman"/>
              </a:rPr>
              <a:t>Physical Activity</a:t>
            </a:r>
            <a:r>
              <a:rPr b="0" lang="en-US" sz="2800" spc="-1" strike="noStrike">
                <a:solidFill>
                  <a:srgbClr val="ffffff"/>
                </a:solidFill>
                <a:latin typeface="Times New Roman"/>
              </a:rPr>
              <a:t>: Bodily movement that is produced by the contraction of skeletal muscle and that substantially increases energy expenditure (USDHHS, 1996)</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ed911"/>
                </a:solidFill>
                <a:latin typeface="Times New Roman"/>
              </a:rPr>
              <a:t>Thank you, </a:t>
            </a:r>
            <a:br>
              <a:rPr sz="4000"/>
            </a:br>
            <a:r>
              <a:rPr b="0" lang="en-US" sz="4000" spc="-1" strike="noStrike">
                <a:solidFill>
                  <a:srgbClr val="ded911"/>
                </a:solidFill>
                <a:latin typeface="Times New Roman"/>
              </a:rPr>
              <a:t>My Australian colleagues…</a:t>
            </a:r>
            <a:endParaRPr b="0" lang="en-US" sz="4000" spc="-1" strike="noStrike">
              <a:solidFill>
                <a:srgbClr val="ded911"/>
              </a:solidFill>
              <a:latin typeface="Times New Roman"/>
            </a:endParaRPr>
          </a:p>
        </p:txBody>
      </p:sp>
      <p:sp>
        <p:nvSpPr>
          <p:cNvPr id="166" name="PlaceHolder 2"/>
          <p:cNvSpPr>
            <a:spLocks noGrp="1"/>
          </p:cNvSpPr>
          <p:nvPr>
            <p:ph/>
          </p:nvPr>
        </p:nvSpPr>
        <p:spPr>
          <a:xfrm>
            <a:off x="4605120" y="1981080"/>
            <a:ext cx="380988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letting me share with you</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aring about you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your warm and caring spirit</a:t>
            </a:r>
            <a:endParaRPr b="0" lang="en-US" sz="3200" spc="-1" strike="noStrike">
              <a:solidFill>
                <a:srgbClr val="ffffff"/>
              </a:solidFill>
              <a:latin typeface="Times New Roman"/>
            </a:endParaRPr>
          </a:p>
        </p:txBody>
      </p:sp>
      <p:pic>
        <p:nvPicPr>
          <p:cNvPr id="167" name="" descr=""/>
          <p:cNvPicPr/>
          <p:nvPr/>
        </p:nvPicPr>
        <p:blipFill>
          <a:blip r:embed="rId1"/>
          <a:stretch/>
        </p:blipFill>
        <p:spPr>
          <a:xfrm>
            <a:off x="1168560" y="1981080"/>
            <a:ext cx="2757240" cy="4114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d911"/>
                </a:solidFill>
                <a:latin typeface="Times New Roman"/>
              </a:rPr>
              <a:t>Pedometers - Validity &amp; Reliability</a:t>
            </a:r>
            <a:endParaRPr b="0" lang="en-US" sz="4400" spc="-1" strike="noStrike">
              <a:solidFill>
                <a:srgbClr val="ded911"/>
              </a:solidFill>
              <a:latin typeface="Times New Roman"/>
            </a:endParaRPr>
          </a:p>
        </p:txBody>
      </p:sp>
      <p:sp>
        <p:nvSpPr>
          <p:cNvPr id="169"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on, Rowlands, &amp; Ingledew, 1998</a:t>
            </a:r>
            <a:endParaRPr b="0" lang="en-US" sz="2800" spc="-1" strike="noStrike">
              <a:solidFill>
                <a:srgbClr val="ffffff"/>
              </a:solidFill>
              <a:latin typeface="Times New Roman"/>
            </a:endParaRPr>
          </a:p>
          <a:p>
            <a:pPr lvl="1" marL="743040" indent="-28584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gression analysis</a:t>
            </a:r>
            <a:endParaRPr b="0" lang="en-US" sz="2600" spc="-1" strike="noStrike">
              <a:solidFill>
                <a:srgbClr val="ffffff"/>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Tritrac R</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825</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eart Rate R</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638</a:t>
            </a:r>
            <a:endParaRPr b="0" lang="en-US" sz="2000" spc="-1" strike="noStrike">
              <a:solidFill>
                <a:srgbClr val="ffffff"/>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Pedometer R</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650</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WAM (CSA) R</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 .609</a:t>
            </a:r>
            <a:endParaRPr b="0" lang="en-US" sz="2000" spc="-1" strike="noStrike">
              <a:solidFill>
                <a:srgbClr val="ffffff"/>
              </a:solidFill>
              <a:latin typeface="Times New Roman"/>
            </a:endParaRPr>
          </a:p>
          <a:p>
            <a:pPr lvl="1" marL="743040" indent="-28584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ad .921 correlation with VO</a:t>
            </a:r>
            <a:r>
              <a:rPr b="0" lang="en-US" sz="2600" spc="-1" strike="noStrike" baseline="-25000">
                <a:solidFill>
                  <a:srgbClr val="ffffff"/>
                </a:solidFill>
                <a:latin typeface="Times New Roman"/>
              </a:rPr>
              <a:t>2</a:t>
            </a:r>
            <a:r>
              <a:rPr b="0" lang="en-US" sz="2600" spc="-1" strike="noStrike">
                <a:solidFill>
                  <a:srgbClr val="ffffff"/>
                </a:solidFill>
                <a:latin typeface="Times New Roman"/>
              </a:rPr>
              <a:t> during unregulated play activities</a:t>
            </a:r>
            <a:endParaRPr b="0" lang="en-US" sz="2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ilanowski, Consalvi, &amp; Epstein, 1999</a:t>
            </a:r>
            <a:endParaRPr b="0" lang="en-US" sz="2800" spc="-1" strike="noStrike">
              <a:solidFill>
                <a:srgbClr val="ffffff"/>
              </a:solidFill>
              <a:latin typeface="Times New Roman"/>
            </a:endParaRPr>
          </a:p>
          <a:p>
            <a:pPr lvl="1" marL="743040" indent="-28584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ad high correlations with the Tritrac and direct observation measures during recreational activities (.98 &amp; .97, respectively)</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d911"/>
                </a:solidFill>
                <a:latin typeface="Times New Roman"/>
              </a:rPr>
              <a:t>Advantages &amp; Limitations</a:t>
            </a:r>
            <a:endParaRPr b="0" lang="en-US" sz="4400" spc="-1" strike="noStrike">
              <a:solidFill>
                <a:srgbClr val="ded911"/>
              </a:solidFill>
              <a:latin typeface="Times New Roman"/>
            </a:endParaRPr>
          </a:p>
        </p:txBody>
      </p:sp>
      <p:sp>
        <p:nvSpPr>
          <p:cNvPr id="171" name="PlaceHolder 2"/>
          <p:cNvSpPr>
            <a:spLocks noGrp="1"/>
          </p:cNvSpPr>
          <p:nvPr>
            <p:ph/>
          </p:nvPr>
        </p:nvSpPr>
        <p:spPr>
          <a:xfrm>
            <a:off x="380520" y="1981080"/>
            <a:ext cx="853452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antage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obtrusive &amp; convenie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effective - $20 for one, $11 to $15 depending on quantity purchase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ures movement.</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mitation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able to measure intensity, duration, or frequenc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able to store information other than total cou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73"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 and class members wear pedometer during school d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mulated steps are discussed each day for 5 day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als are set for all studen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als are set in a healthy zone format (similar to Fitnessgram standar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75"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ngsters are asked to monitor one of his parents or significant adult for one d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ndout sent home discussing pedometers and the 10,000 step criteria for adul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are discussed by students in clas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s parental interest in regular physical activ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77"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ear pedometers for a 24 hour period to check their free time activ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ison of student data to parent’s dat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als set for students based on baseline data gathered by each stud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79"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chart their activity as a class projec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als are set for the class-at-large, i.e., a walk across Arizona or the 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d on the assumption that 2500 steps equals a mi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81"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ear pedometers and time how long it takes them to walk a certain number of step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 for adults, a 30-minute walk is comparable to 4,000 step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time for different activitie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then set their goals in terms of minutes (meet the P.L.A.Y. standar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83"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calculate caloric expenditure based on the number of steps taken during a 24 hour perio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rt how many extra calories they would have to burn to lose one pound of weight in one month.</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 how many calories are consumed when eating candy, pastries, and other high calorie fo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85"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are different types of physical activit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a set amount of time (30 minutes) in different activities and see how many steps are accumulat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example, taking a walk, playing soccer, playing baseball, doing chores around the hou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 chart showing the activity levels of selected activit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21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Are Today’s Youth </a:t>
            </a:r>
            <a:br>
              <a:rPr sz="4400"/>
            </a:br>
            <a:r>
              <a:rPr b="0" lang="en-US" sz="4400" spc="-1" strike="noStrike">
                <a:solidFill>
                  <a:srgbClr val="ded911"/>
                </a:solidFill>
                <a:latin typeface="Times New Roman"/>
              </a:rPr>
              <a:t>Physically Fit?</a:t>
            </a:r>
            <a:endParaRPr b="0" lang="en-US" sz="4400" spc="-1" strike="noStrike">
              <a:solidFill>
                <a:srgbClr val="ded911"/>
              </a:solidFill>
              <a:latin typeface="Times New Roman"/>
            </a:endParaRPr>
          </a:p>
        </p:txBody>
      </p:sp>
      <p:sp>
        <p:nvSpPr>
          <p:cNvPr id="107" name="PlaceHolder 2"/>
          <p:cNvSpPr>
            <a:spLocks noGrp="1"/>
          </p:cNvSpPr>
          <p:nvPr>
            <p:ph/>
          </p:nvPr>
        </p:nvSpPr>
        <p:spPr>
          <a:xfrm>
            <a:off x="685800" y="2819520"/>
            <a:ext cx="7772400" cy="35049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if you listen to many teach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if you listen to many parents who remember how fit they were as you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if you listen to the least active group (adults) label the most active group (youth)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s, if you look at research data</a:t>
            </a: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ays to Use Pedometers in Schools</a:t>
            </a:r>
            <a:endParaRPr b="0" lang="en-US" sz="4400" spc="-1" strike="noStrike">
              <a:solidFill>
                <a:srgbClr val="ded911"/>
              </a:solidFill>
              <a:latin typeface="Times New Roman"/>
            </a:endParaRPr>
          </a:p>
        </p:txBody>
      </p:sp>
      <p:sp>
        <p:nvSpPr>
          <p:cNvPr id="187"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t and evaluate activity data using a spreadshee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can input their data in the computer lab and then compare different times and distanc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te a one-week log of steps accumulated each day. Compute the average daily count and see if they are adequate amounts of activity on a daily basi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ed911"/>
                </a:solidFill>
                <a:latin typeface="Times New Roman"/>
              </a:rPr>
              <a:t>Understanding the Limitations of Pedometers</a:t>
            </a:r>
            <a:endParaRPr b="0" lang="en-US" sz="4400" spc="-1" strike="noStrike">
              <a:solidFill>
                <a:srgbClr val="ded911"/>
              </a:solidFill>
              <a:latin typeface="Times New Roman"/>
            </a:endParaRPr>
          </a:p>
        </p:txBody>
      </p:sp>
      <p:sp>
        <p:nvSpPr>
          <p:cNvPr id="189"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wlands, Eston &amp; Ingledew, 1997.</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aking into consideration the intermittent activity patterns of youth and the recent emphasis on promoting total physical activity as opposed to focusing on intensity, duration and frequency these limitations seem to be acceptable.</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dometers give a total count that can be evaluated for each child based on normal patterns of activity in the popul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Research Questions</a:t>
            </a:r>
            <a:endParaRPr b="0" lang="en-US" sz="4400" spc="-1" strike="noStrike">
              <a:solidFill>
                <a:srgbClr val="ded911"/>
              </a:solidFill>
              <a:latin typeface="Times New Roman"/>
            </a:endParaRPr>
          </a:p>
        </p:txBody>
      </p:sp>
      <p:sp>
        <p:nvSpPr>
          <p:cNvPr id="191"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0 steps per day is recommended dosage for adults, therefo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recommended dosage for youth as they mature? Parents/teachers would have data for assuring adequate activity in you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BMI impact activity lev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es self-esteem impact activity level?</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U.S. Fitness Testing Data</a:t>
            </a:r>
            <a:endParaRPr b="0" lang="en-US" sz="4400" spc="-1" strike="noStrike">
              <a:solidFill>
                <a:srgbClr val="ded911"/>
              </a:solidFill>
              <a:latin typeface="Times New Roman"/>
            </a:endParaRPr>
          </a:p>
        </p:txBody>
      </p:sp>
      <p:sp>
        <p:nvSpPr>
          <p:cNvPr id="109"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ministered in 1958, 1965, 1975, 1985</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pled entire 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 to 20,000 youngsters test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ucted by the President’s Council on Physical Fitness and Spor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d youngsters using the PCPFS physical fitness test</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Results of U.S. Fitness Testing</a:t>
            </a:r>
            <a:endParaRPr b="0" lang="en-US" sz="4400" spc="-1" strike="noStrike">
              <a:solidFill>
                <a:srgbClr val="ded911"/>
              </a:solidFill>
              <a:latin typeface="Times New Roman"/>
            </a:endParaRPr>
          </a:p>
        </p:txBody>
      </p:sp>
      <p:sp>
        <p:nvSpPr>
          <p:cNvPr id="111"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ce 1958, no decreases in fitness scores have been identified (Corbin &amp; Pangrazi, 1992)</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 items in each of the four national tests were the pull-up and flexed arm hang.</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ys and girls pass rates improved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rls: 50% in 1958 and 53% in 1985</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ys: 55% in 1958 and 73% in 198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Presidential Award </a:t>
            </a:r>
            <a:br>
              <a:rPr sz="4400"/>
            </a:br>
            <a:r>
              <a:rPr b="0" lang="en-US" sz="4400" spc="-1" strike="noStrike">
                <a:solidFill>
                  <a:srgbClr val="ded911"/>
                </a:solidFill>
                <a:latin typeface="Times New Roman"/>
              </a:rPr>
              <a:t>Fitness Test Results</a:t>
            </a:r>
            <a:endParaRPr b="0" lang="en-US" sz="4400" spc="-1" strike="noStrike">
              <a:solidFill>
                <a:srgbClr val="ded911"/>
              </a:solidFill>
              <a:latin typeface="Times New Roman"/>
            </a:endParaRPr>
          </a:p>
        </p:txBody>
      </p:sp>
      <p:sp>
        <p:nvSpPr>
          <p:cNvPr id="113" name="PlaceHolder 2"/>
          <p:cNvSpPr>
            <a:spLocks noGrp="1"/>
          </p:cNvSpPr>
          <p:nvPr>
            <p:ph/>
          </p:nvPr>
        </p:nvSpPr>
        <p:spPr>
          <a:xfrm>
            <a:off x="609480" y="22096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earn the Presidential Award, youngsters must pass test items at the 85%il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youngsters didn’t meet 8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percentile on all tests, youngsters were labeled unfi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 than one tenth of one percent of students were able to pass all the tests (Corbin &amp; Pangrazi, 1992)</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ws that a battery of tests will always fail the majority of people</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Why Little Change in </a:t>
            </a:r>
            <a:br>
              <a:rPr sz="4400"/>
            </a:br>
            <a:r>
              <a:rPr b="0" lang="en-US" sz="4400" spc="-1" strike="noStrike">
                <a:solidFill>
                  <a:srgbClr val="ded911"/>
                </a:solidFill>
                <a:latin typeface="Times New Roman"/>
              </a:rPr>
              <a:t>Fitness levels?</a:t>
            </a:r>
            <a:endParaRPr b="0" lang="en-US" sz="4400" spc="-1" strike="noStrike">
              <a:solidFill>
                <a:srgbClr val="ded911"/>
              </a:solidFill>
              <a:latin typeface="Times New Roman"/>
            </a:endParaRPr>
          </a:p>
        </p:txBody>
      </p:sp>
      <p:sp>
        <p:nvSpPr>
          <p:cNvPr id="115" name="PlaceHolder 2"/>
          <p:cNvSpPr>
            <a:spLocks noGrp="1"/>
          </p:cNvSpPr>
          <p:nvPr>
            <p:ph/>
          </p:nvPr>
        </p:nvSpPr>
        <p:spPr>
          <a:xfrm>
            <a:off x="642960" y="2209320"/>
            <a:ext cx="7772400" cy="38862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mentary school youth show little physiological response to training (Payne &amp; Morrow, 1993)</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tness is strongly influenced by genetics (Bouchard, 1993)</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ngsters may be at a satisfactory fitness level because they are more active than any other age group</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a0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d911"/>
                </a:solidFill>
                <a:latin typeface="Times New Roman"/>
              </a:rPr>
              <a:t>Fitness is Controlled by Many External Factors</a:t>
            </a:r>
            <a:endParaRPr b="0" lang="en-US" sz="4400" spc="-1" strike="noStrike">
              <a:solidFill>
                <a:srgbClr val="ded911"/>
              </a:solidFill>
              <a:latin typeface="Times New Roman"/>
            </a:endParaRPr>
          </a:p>
        </p:txBody>
      </p:sp>
      <p:sp>
        <p:nvSpPr>
          <p:cNvPr id="117" name="PlaceHolder 2"/>
          <p:cNvSpPr>
            <a:spLocks noGrp="1"/>
          </p:cNvSpPr>
          <p:nvPr>
            <p:ph/>
          </p:nvPr>
        </p:nvSpPr>
        <p:spPr>
          <a:xfrm>
            <a:off x="64296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performance is controlled by many factor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uration - age differences of 3 months impact performance scor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tri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tic Predisposi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ability</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21:22:29Z</dcterms:created>
  <dc:creator>Robert P. Pangrazi</dc:creator>
  <dc:description/>
  <dc:language>en-US</dc:language>
  <cp:lastModifiedBy>DOE</cp:lastModifiedBy>
  <dcterms:modified xsi:type="dcterms:W3CDTF">2005-03-02T07:55:35Z</dcterms:modified>
  <cp:revision>94</cp:revision>
  <dc:subject/>
  <dc:title>No Slide Title</dc:title>
</cp:coreProperties>
</file>